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wmf" ContentType="image/x-wmf"/>
  <Override PartName="/ppt/media/image15.wmf" ContentType="image/x-wmf"/>
  <Override PartName="/ppt/media/image4.jpeg" ContentType="image/jpeg"/>
  <Override PartName="/ppt/media/image16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18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4E72F-D293-45EB-95D5-5C0F96B33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FF6D4-66C1-4BB7-B2DF-0D082F3F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EA900-0A82-4F76-AF56-B103E2A82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F8806-6AD4-4F04-8AB7-79DD55E9D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996D-3504-4EC7-B6A0-533F6817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9E62-E8A1-4B4F-82EF-7CEB3DEA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F294-B5D5-49D1-8847-963A2000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A8DC-1C4E-4B38-9A8F-D6ED7BF6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AB2E-1081-4194-869F-9898A245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08CF-B869-4B10-B228-34D26A42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65FA-723F-4627-A30D-3EF5861C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DD45D-FF7D-471C-9E25-8FA1FE9A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498D-5270-44B1-A4BC-C718CCC6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9F6A-24ED-41AA-8C6C-AA59D24C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F951-8018-4142-904B-C81B3D93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2AFB-847D-45BC-8289-5975CDC8B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BE72-C41E-49A5-A57B-05A45A52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AAEA6-A35C-4C7B-8CD0-DDF0B6F4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89EEB-1D60-45B2-B0D4-2E70873B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10C19-5A6F-4196-B8E4-65154193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294D1-F4E1-45DB-947B-2184030D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0A51E-41F3-4601-9CBB-82F35FE7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D6D9B-AEB7-4139-9CDD-01D2088C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B816A-85BD-44F1-B455-CF05B433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94B9-FA7D-4CB5-8AE6-545FB2BEEE6A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5BF8-C3D6-45CE-9077-B7222602FAA0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918560" cy="23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Trebuchet MS"/>
              </a:rPr>
              <a:t>Mecanismos e Valores da Cobrança pelo Uso da Água na Bacia do Rio São Francisco</a:t>
            </a: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   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4ª Reunião CTCOB- CNRH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omaz Matta Macha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ev.201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861720" y="6237360"/>
            <a:ext cx="53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 em Propriá SE –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-962280" y="558828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flipV="1" rot="10800000">
            <a:off x="3779640" y="979920"/>
            <a:ext cx="49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io São Francisco em Propriá/ SE –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55308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140360" y="306864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 em Garajú - AL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-962280" y="432000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712160" y="6157800"/>
            <a:ext cx="72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io São Francisco em Garajú/Baixo São Francisco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-962280" y="558828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-318240" y="6491160"/>
            <a:ext cx="604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 em Piranhas/Alagoas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7876440" y="424692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3920" y="476280"/>
            <a:ext cx="52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io São Francisco em Propriá/SE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23280" y="6508800"/>
            <a:ext cx="16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957400" y="4292640"/>
            <a:ext cx="610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 em Piranhas/Alagoas - 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-550080" y="5787360"/>
            <a:ext cx="16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-150120" y="2133720"/>
            <a:ext cx="72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io São Francisco em Garajú/Baixo São Francisco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23280" y="6553080"/>
            <a:ext cx="16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-45720" y="6165720"/>
            <a:ext cx="59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/Baixo São Francisco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8253720" y="5454000"/>
            <a:ext cx="16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Garamond"/>
              </a:rPr>
              <a:t>Rede </a:t>
            </a:r>
            <a:r>
              <a:rPr b="1" lang="pt-BR" sz="4400" spc="-1" strike="noStrike" u="sng">
                <a:solidFill>
                  <a:srgbClr val="ffffff"/>
                </a:solidFill>
                <a:uFillTx/>
                <a:latin typeface="Garamond"/>
              </a:rPr>
              <a:t>EcoVazã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684360" y="1989000"/>
            <a:ext cx="7920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Garamond"/>
              </a:rPr>
              <a:t>Com vistas à definição de um regime ou hidrograma de vazões ecológicas para o baixo curso do Rio São Francisco, estão sendo realizados estudos por uma rede de pesquisa formada por universidades, localizadas na Bacia (UFBA, UFMG, UFS, UFPE, UFLA), financiada pelo CT-Hidro </a:t>
            </a: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(Edital MCT/CNPq – CT-HIDRO 45/2006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Garamond"/>
              </a:rPr>
              <a:t>A rede </a:t>
            </a: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EcoVazão</a:t>
            </a:r>
            <a:r>
              <a:rPr b="0" lang="pt-BR" sz="2200" spc="-1" strike="noStrike">
                <a:solidFill>
                  <a:srgbClr val="ffffff"/>
                </a:solidFill>
                <a:latin typeface="Garamond"/>
              </a:rPr>
              <a:t> tem como objetivo a articulação de iniciativas, no campo da produção do conhecimento, que avance no sentido da construção de um saber mais próximo das múltiplas e complexas determinações naturais e sociai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Trebuchet MS"/>
              </a:rPr>
              <a:t>COMITÊ DA BACIA DO RIO SÃO FRANCISCO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Instituído por Decreto Presidencial de 05 de junho de 2001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124 Membros: 62 titulares e 62 suplente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Composição: 32,79% Poder Público; 37,70% Usuários;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24,59% Sociedade Civil; 4,92% Comunidade Tradiciona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Diretoria: Presidência – Sociedade Civil/ MG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Vice Presidência – Poder Público/ BA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ecretaria Executiva - Poder Público/ A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Alto - Poder Público/ MG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Médio - Sociedade Civil/ BA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ub-médio - Poder Público/ P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Baixo - Sociedade Civil/ S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8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50920" y="260280"/>
            <a:ext cx="8712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Arial Black"/>
              </a:rPr>
              <a:t>AVALIAÇÃO DAS ALTERAÇÕES NAS COMUNIDADES DE PEIXES DE LAGOAS MARGINAIS DO BAIXO CURSO DO RIO SÃO FRANCISCO EM FUNÇÃO DE BARRAMENTOS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49080" y="1989000"/>
            <a:ext cx="63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Arial"/>
                <a:ea typeface="Arial"/>
              </a:rPr>
              <a:t>Defesa de mestrado em Ecologia Aplic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2360" y="5516640"/>
            <a:ext cx="5832360" cy="10720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Marília Lourenço dos Sa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Orientador: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Paulo dos Santos Pompe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Co-orientador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rlos Bernardo M. Al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057560" y="88920"/>
            <a:ext cx="4998960" cy="66801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5840" y="764640"/>
            <a:ext cx="3673800" cy="49690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IO DAS VELHA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fluente em volume e extensão (761 Km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rojeto Manuelzão para Revitalização do Rio das Velh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822240"/>
            <a:ext cx="4464000" cy="58467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859280" y="333000"/>
            <a:ext cx="4105440" cy="6335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ÉDIO SÃO FRANCISCO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echo (600 km) entre Pirapora (MG) e Sobradinho (B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ico em lagoas margina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indefinite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0" y="353880"/>
            <a:ext cx="8929800" cy="6503760"/>
            <a:chOff x="0" y="353880"/>
            <a:chExt cx="8929800" cy="6503760"/>
          </a:xfrm>
        </p:grpSpPr>
        <p:grpSp>
          <p:nvGrpSpPr>
            <p:cNvPr id="155" name=""/>
            <p:cNvGrpSpPr/>
            <p:nvPr/>
          </p:nvGrpSpPr>
          <p:grpSpPr>
            <a:xfrm>
              <a:off x="2486160" y="2370240"/>
              <a:ext cx="6443280" cy="4487400"/>
              <a:chOff x="2486160" y="2370240"/>
              <a:chExt cx="6443280" cy="4487400"/>
            </a:xfrm>
          </p:grpSpPr>
          <p:pic>
            <p:nvPicPr>
              <p:cNvPr id="156" name="" descr=""/>
              <p:cNvPicPr/>
              <p:nvPr/>
            </p:nvPicPr>
            <p:blipFill>
              <a:blip r:embed="rId1"/>
              <a:srcRect l="0" t="7569" r="5869" b="0"/>
              <a:stretch/>
            </p:blipFill>
            <p:spPr>
              <a:xfrm>
                <a:off x="2486160" y="2370240"/>
                <a:ext cx="6411600" cy="448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" descr=""/>
              <p:cNvPicPr/>
              <p:nvPr/>
            </p:nvPicPr>
            <p:blipFill>
              <a:blip r:embed="rId2"/>
              <a:srcRect l="90859" t="1499" r="0" b="83368"/>
              <a:stretch/>
            </p:blipFill>
            <p:spPr>
              <a:xfrm>
                <a:off x="8431920" y="2442600"/>
                <a:ext cx="497520" cy="587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8" name=""/>
            <p:cNvSpPr/>
            <p:nvPr/>
          </p:nvSpPr>
          <p:spPr>
            <a:xfrm>
              <a:off x="0" y="353880"/>
              <a:ext cx="8929800" cy="8193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0000"/>
            </a:bodyPr>
            <a:p>
              <a:pPr marL="205560" indent="-205560">
                <a:lnSpc>
                  <a:spcPct val="80000"/>
                </a:lnSpc>
                <a:spcBef>
                  <a:spcPts val="7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Garamond"/>
                </a:rPr>
                <a:t>    </a:t>
              </a:r>
              <a:r>
                <a:rPr b="1" lang="en-US" sz="3100" spc="-1" strike="noStrike">
                  <a:solidFill>
                    <a:srgbClr val="ffffff"/>
                  </a:solidFill>
                  <a:latin typeface="Garamond"/>
                </a:rPr>
                <a:t>BAIXO SÃO FRANCISCO</a:t>
              </a:r>
              <a:r>
                <a:rPr b="0" lang="en-US" sz="3100" spc="-1" strike="noStrike">
                  <a:solidFill>
                    <a:srgbClr val="ffffff"/>
                  </a:solidFill>
                  <a:latin typeface="Garamond"/>
                </a:rPr>
                <a:t>: 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45680" indent="-171360">
                <a:lnSpc>
                  <a:spcPct val="80000"/>
                </a:lnSpc>
                <a:spcBef>
                  <a:spcPts val="675"/>
                </a:spcBef>
                <a:buClr>
                  <a:srgbClr val="33cccc"/>
                </a:buClr>
                <a:buSzPct val="7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45680" indent="-171360">
                <a:lnSpc>
                  <a:spcPct val="80000"/>
                </a:lnSpc>
                <a:spcBef>
                  <a:spcPts val="675"/>
                </a:spcBef>
                <a:buClr>
                  <a:srgbClr val="33cccc"/>
                </a:buClr>
                <a:buSzPct val="7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Garamond"/>
                </a:rPr>
                <a:t>Trecho mais curto (274 km)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611280" y="692280"/>
            <a:ext cx="8532720" cy="6024600"/>
            <a:chOff x="611280" y="692280"/>
            <a:chExt cx="8532720" cy="6024600"/>
          </a:xfrm>
        </p:grpSpPr>
        <p:sp>
          <p:nvSpPr>
            <p:cNvPr id="160" name=""/>
            <p:cNvSpPr/>
            <p:nvPr/>
          </p:nvSpPr>
          <p:spPr>
            <a:xfrm>
              <a:off x="3349800" y="692280"/>
              <a:ext cx="57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iqueza espécies migrador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1" name="" descr=""/>
            <p:cNvPicPr/>
            <p:nvPr/>
          </p:nvPicPr>
          <p:blipFill>
            <a:blip r:embed="rId1"/>
            <a:srcRect l="2362" t="3549" r="43648" b="4170"/>
            <a:stretch/>
          </p:blipFill>
          <p:spPr>
            <a:xfrm>
              <a:off x="611280" y="1557360"/>
              <a:ext cx="4535280" cy="515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2"/>
            <a:srcRect l="76779" t="0" r="0" b="73383"/>
            <a:stretch/>
          </p:blipFill>
          <p:spPr>
            <a:xfrm>
              <a:off x="5435640" y="1773360"/>
              <a:ext cx="1655640" cy="12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166360" y="5094360"/>
              <a:ext cx="3597480" cy="4597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Kruscal-Wallis: p = 0,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Black"/>
              </a:rPr>
              <a:t>RESULTADOS E DISCUSSÃ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Vazão Ambiental – ano norm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22960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11280" y="2016000"/>
            <a:ext cx="7993080" cy="41497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6"/>
          <p:cNvSpPr/>
          <p:nvPr/>
        </p:nvSpPr>
        <p:spPr>
          <a:xfrm>
            <a:off x="457200" y="557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Vazão Ambiental – ano se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rebuchet MS"/>
              </a:rPr>
              <a:t>MECANISMOS DE COBRANÇA PELO USO DA ÁGUA NA BACIA HIDROGRÁFICA DO RIO SÃO FRANCISCO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756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Qcap  Qcons   CODBO  Kgestã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aramond"/>
              </a:rPr>
              <a:t>Valorcap = Qcap x PPUcap x Kca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aramond"/>
              </a:rPr>
              <a:t>Valorcons = Qcons x PPUcons x Kc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ValorDBO = CODBO x PPULanç x Klanç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rebuchet MS"/>
              </a:rPr>
              <a:t>MECANISMOS DE COBRANÇA PELO USO DA ÁGUA NA BACIA HIDROGRÁFICA DO RIO SÃO FRANCISCO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Uso Inter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Valor total = Valorcap  +  Valorcons + ValorDBO x Kgestã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Uso Exter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Valor total</a:t>
            </a:r>
            <a:r>
              <a:rPr b="1" lang="en-A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=  valorcap+ valorcons x kprioridade x Kgestã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rebuchet MS"/>
              </a:rPr>
              <a:t>VALORES UNITÁRIOS DE COBRANÇA PPUS NA BACIA DO RIO SÃO FRANCISCO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68360" y="2060640"/>
          <a:ext cx="8229600" cy="3816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ipo de us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P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nid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alor (R$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ptação de água bru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PU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c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sumo de água bru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PU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c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0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ançamento de carga orgânica DBO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5,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PU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DB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655308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e5e5ff"/>
                </a:solidFill>
                <a:latin typeface="Trebuchet MS"/>
              </a:rPr>
              <a:t>VALORES DOS COEFICIENTES 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Trebuchet MS"/>
              </a:rPr>
              <a:t>MULTIPLICADORES DE COBRANÇA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57200" y="1600200"/>
          <a:ext cx="8229600" cy="4420800"/>
        </p:xfrm>
        <a:graphic>
          <a:graphicData uri="http://schemas.openxmlformats.org/drawingml/2006/table">
            <a:tbl>
              <a:tblPr/>
              <a:tblGrid>
                <a:gridCol w="3106800"/>
                <a:gridCol w="2379600"/>
                <a:gridCol w="2743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erm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las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 cap clas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cons irri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t (para irrigação, criação animal e aquicultura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t(demais setores usuário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 lanç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prioridad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abastecimento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rebuchet MS"/>
              </a:rPr>
              <a:t>COBRANÇA PROJETO DE INTEGRAÇÃO DO RIO SÃO FRANCISCO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t. 3º - Deliberação CBHSF nº18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a Técnica ANA/SOC nº 492/2004 (coordenadas específicas e distinta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a Técnica ANA/SOC nº 390/2005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§1º, do art. 7º - Resolução CNRH nº 48 (diferenciação dos valor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olução nº 1 /2005 Outorga Vale (barragem, captação e lançamento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rebuchet MS"/>
              </a:rPr>
              <a:t>COBRANÇA PROJETO DE INTEGRAÇÃO DO RIO SÃO FRANCISCO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392200"/>
            <a:ext cx="822960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zão de 26,40m3/s ( Outorga 11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 prioridade Deliberação CBHSF nº18/2004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ixo Leste 10,29m³/s K prioridade= 0,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ixo Norte 16,11m³/s K prioridade é igual a 1,00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zão média plurianual outorgad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CONSIDERAÇÕES FINAI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isponibilidade hídrica – NEST-109,9m³/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arágrafos 44,45,46..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Vazão firme em cada eix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iferenciação dos eixos: K</a:t>
            </a:r>
            <a:r>
              <a:rPr b="0" lang="pt-BR" sz="3200" spc="-1" strike="noStrike" baseline="-25000">
                <a:solidFill>
                  <a:srgbClr val="ffffff"/>
                </a:solidFill>
                <a:latin typeface="Garamond"/>
              </a:rPr>
              <a:t>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arágrafo 2, artigo I, Deliberação 45/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ESO/Sergi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ara que comitê de bacia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Trebuchet MS"/>
              </a:rPr>
              <a:t>DADOS DEMOGRÁFICO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1700280"/>
            <a:ext cx="712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Área da bacia: 634.781 km²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8% do território nacio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6 Estados: Minas Gerais, Bahia, Pernambuco, Alagoas, Sergipe, Goiá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istrito Feder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503 municíp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opulação estimada: 12.796.082 ha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PRINCIPAIS USO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5640" y="1988640"/>
            <a:ext cx="670716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Geração de energia elétrica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Indústri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Saneamento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gricultur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Pesca e aquicultur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Navegação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Turismo e lazer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rebuchet MS"/>
              </a:rPr>
              <a:t>CONFLITOS EXISTENT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Garamond"/>
              </a:rPr>
              <a:t>1. Quantidade de águ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a) Geração de energia x outros usos (vazões críticas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)Agricultura irrigada x outros usos, sub-bacias do Paracatu (Entre Ribeiros), Jequitaí-Pacuí (Riachinho), Salitre e Transposiçã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55640" y="1484280"/>
            <a:ext cx="6912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Garamond"/>
              </a:rPr>
              <a:t>2. Qualidade da água: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acia do rio Par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acia do rio Paraopeb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acia do rio das Velh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acia do rio Verde-Gran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Trechos da Cal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CONFLITOS EXISTENT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PRINCIPAIS DECISÕES 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Prioridade de outorga: uso interno à baci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locação externa: abastecimento humano comprovada a escassez hídric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Vazão alocável: 360m³/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Vazão mínima diária na foz: 1300m³/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Instituição do Processo Administrativo 01/2004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Natureza jurídica da Agênci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Mecanismos e valores de cobrança 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AGENDA EM DISCUSSÃO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dicação da Entidade Delegatária com funções de Agência da Ba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ato de Gestão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cto da Águas (vazões de entreg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italização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cesso administrativo da transposiçã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ição da vazão ambient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8:24:58Z</dcterms:created>
  <dc:creator>Medicina Preventiva e Social</dc:creator>
  <dc:description/>
  <dc:language>en-US</dc:language>
  <cp:lastModifiedBy>ANA</cp:lastModifiedBy>
  <dcterms:modified xsi:type="dcterms:W3CDTF">2010-02-24T12:27:08Z</dcterms:modified>
  <cp:revision>8</cp:revision>
  <dc:subject/>
  <dc:title>Mecanismos  Valores da Cobrança pelo Uso da Água na Bacia do Rio São Francisco   </dc:title>
</cp:coreProperties>
</file>